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013D-1F22-4405-8978-EF5E285A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F871-3584-46CD-9D03-3D712581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8018-8097-4EBD-92AB-3E6115643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E066-FF2D-4003-BB2C-CA9FCC966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4150-0B23-45D7-9DC4-F0554B64C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2F86-24C6-4C19-8818-73F8ED93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749D-E27B-438F-9856-CF8EFB77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C37B-F13F-4DBA-8D4B-10F0FF8B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02BC-66F8-4B68-B8CA-E1FC35D9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E1DA-B0AC-41E6-AB57-8ACCF864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4B40-3F9C-48EE-BE6B-630257F5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B32C-1F9A-4CBD-801B-5BB8A811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FFFA-D642-4A6E-8469-586E76E6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CD60-AF68-46F0-8318-2698A47D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E3F1-5C8D-4D5A-AAA1-6F2A6317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E8DF-2AF4-49FD-A5D0-701354F7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6C0F-EDD8-4835-BB55-20450EDE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FDCA-979D-4B61-89C7-490ADF82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65CF-6945-4E0D-B717-DCE6DC7E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C01B-8BA4-4777-ABBE-B997FEBD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B452-4C0F-4679-B8F7-D67973A2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262D-AD26-4DC2-98CE-4DCDC7EC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2A1C-2370-4BCE-98CC-FEDAD481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7F5D-1CC8-459D-8F88-147752FA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AEA8-096E-40D3-9834-BF64E42BDB4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AEB3-7FD8-45FC-9A26-E71D4CCF657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АГЕНС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нилац 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је ПРИСУСТВО, ОБИ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Е или релативно одсуство представ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 НУ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Н УСЛОВ за настанак обо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Cirilica"/>
              </a:rPr>
              <a:t>БИОЛО</a:t>
            </a:r>
            <a:r>
              <a:rPr b="0" lang="sr-CS" sz="3200" spc="-1" strike="noStrike">
                <a:solidFill>
                  <a:srgbClr val="ffff00"/>
                </a:solidFill>
                <a:latin typeface="Times Cirilica"/>
              </a:rPr>
              <a:t>Ш</a:t>
            </a:r>
            <a:r>
              <a:rPr b="0" lang="en-US" sz="3200" spc="-1" strike="noStrike">
                <a:solidFill>
                  <a:srgbClr val="ffff00"/>
                </a:solidFill>
                <a:latin typeface="Times Cirilica"/>
              </a:rPr>
              <a:t>КИ АГЕНСИ- Каракетисике </a:t>
            </a:r>
            <a:r>
              <a:rPr b="0" lang="sr-CS" sz="3200" spc="-1" strike="noStrike">
                <a:solidFill>
                  <a:srgbClr val="ffff00"/>
                </a:solidFill>
                <a:latin typeface="Times Cirilica"/>
              </a:rPr>
              <a:t>ж</a:t>
            </a:r>
            <a:r>
              <a:rPr b="0" lang="en-US" sz="3200" spc="-1" strike="noStrike">
                <a:solidFill>
                  <a:srgbClr val="ffff00"/>
                </a:solidFill>
                <a:latin typeface="Times Cirilica"/>
              </a:rPr>
              <a:t>ивих проузрокова</a:t>
            </a:r>
            <a:r>
              <a:rPr b="0" lang="sr-CS" sz="32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00"/>
                </a:solidFill>
                <a:latin typeface="Times Cirilica"/>
              </a:rPr>
              <a:t>а од којих зависи настанак ЗАРАЗНОГ обо</a:t>
            </a:r>
            <a:r>
              <a:rPr b="0" lang="sr-CS" sz="3200" spc="-1" strike="noStrike">
                <a:solidFill>
                  <a:srgbClr val="ffff00"/>
                </a:solidFill>
                <a:latin typeface="Times Cirilica"/>
              </a:rPr>
              <a:t>љ</a:t>
            </a:r>
            <a:r>
              <a:rPr b="0" lang="en-US" sz="3200" spc="-1" strike="noStrike">
                <a:solidFill>
                  <a:srgbClr val="ffff00"/>
                </a:solidFill>
                <a:latin typeface="Times Cirilica"/>
              </a:rPr>
              <a:t>е</a:t>
            </a:r>
            <a:r>
              <a:rPr b="0" lang="sr-CS" sz="3200" spc="-1" strike="noStrike">
                <a:solidFill>
                  <a:srgbClr val="ffff00"/>
                </a:solidFill>
                <a:latin typeface="Times Cirilica"/>
              </a:rPr>
              <a:t>њ</a:t>
            </a:r>
            <a:r>
              <a:rPr b="0" lang="en-US" sz="3200" spc="-1" strike="noStrike">
                <a:solidFill>
                  <a:srgbClr val="ffff00"/>
                </a:solidFill>
                <a:latin typeface="Times Cirilica"/>
              </a:rPr>
              <a:t>а:</a:t>
            </a:r>
            <a:r>
              <a:rPr b="0" lang="en-US" sz="4000" spc="-1" strike="noStrike">
                <a:solidFill>
                  <a:srgbClr val="ffffcc"/>
                </a:solidFill>
                <a:latin typeface="Times Cirilic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Н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н излу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 из организ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Н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н уласка у организ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тогено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нфективно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К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онтагизно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В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руленц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Т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окс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но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муногено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сет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ост и резистенција на лекове и дезинфекциона сред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тпорност у спо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ш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ој среди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Клацификација п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роузрокова</a:t>
            </a: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ча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 заразних болести према ОТПОРНОСТИ у СПО</a:t>
            </a: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Љ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А</a:t>
            </a: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ШЊ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ОЈ СРЕДИНИ</a:t>
            </a:r>
            <a:r>
              <a:rPr b="0" lang="sr-CS" sz="4000" spc="-1" strike="noStrike">
                <a:solidFill>
                  <a:srgbClr val="ffffcc"/>
                </a:solidFill>
                <a:latin typeface="Times Cirilica"/>
              </a:rPr>
              <a:t> –</a:t>
            </a:r>
            <a:r>
              <a:rPr b="0" lang="sr-CS" sz="2800" spc="-1" strike="noStrike">
                <a:solidFill>
                  <a:srgbClr val="ffffcc"/>
                </a:solidFill>
                <a:latin typeface="Times Cirilica"/>
              </a:rPr>
              <a:t>1/2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1. 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О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блигатн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паразит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и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ван организма брзо пропадај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*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морбили, сифилис, гонореја, епидем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ни менингити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2.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ко време опстају ван организма, али се НЕ размно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вај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*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бацил ТБ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Клацификација п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роузрокова</a:t>
            </a: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ча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 заразних болести према ОТПОРНОСТИ у СПО</a:t>
            </a: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Љ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А</a:t>
            </a: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ШЊ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ОЈ СРЕДИНИ</a:t>
            </a:r>
            <a:r>
              <a:rPr b="0" lang="sr-CS" sz="4000" spc="-1" strike="noStrike">
                <a:solidFill>
                  <a:srgbClr val="ffffcc"/>
                </a:solidFill>
                <a:latin typeface="Times Cirilica"/>
              </a:rPr>
              <a:t> –</a:t>
            </a:r>
            <a:r>
              <a:rPr b="0" lang="sr-CS" sz="2800" spc="-1" strike="noStrike">
                <a:solidFill>
                  <a:srgbClr val="ffffcc"/>
                </a:solidFill>
                <a:latin typeface="Times Cirilica"/>
              </a:rPr>
              <a:t>2/2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3. ВАН ОРГАНИЗМА у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Cirilica"/>
              </a:rPr>
              <a:t>пово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Times Cirilica"/>
              </a:rPr>
              <a:t>љ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Cirilica"/>
              </a:rPr>
              <a:t>ним условима 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се РАЗМНО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ВАЈ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* т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рбушни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 тифус, паратифус, колера, дизентер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4. 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Д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уго опстају у спо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ш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ој средини у облику СП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* анаеробне бактерије-проузроков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 тетануса, гасне гангрене, ботулиз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УТИЦАЈ ВИРУЛЕНЦИЈЕ И КОЛИ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ИНЕ КЛИЦА НА ПОЈАВУ ОБО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Љ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Е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Њ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А И ЕПИДЕМИЈСКОГ ПРОЦЕС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Особине биолошког агенса одоворне за појаву заразних боле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П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тогено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онтагиозно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нфективно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руленц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ол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УТИЦАЈ ВИРУЛЕНЦИЈЕ И КОЛИ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ИНЕ КЛИЦА НА ПОЈАВУ ОБО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Љ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Е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Њ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А И ЕПИДЕМИЈСКОГ ПРОЦЕС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ПАТОГЕНОС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Ф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зиолошка особин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врс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КОНТАГИОЗНОС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Л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ко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 којом се болест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ПРЕНОСИ на друге дом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ФЕКТИВНОС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С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пособност агенса да ПРОДРЕ у дом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а, ОДР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ВА се и РАЗМНО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ВА (развија у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му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УТИЦАЈ ВИРУЛЕНЦИЈЕ И КОЛИ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ИНЕ КЛИЦА НА ПОЈАВУ ОБО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Љ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Е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Њ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А И ЕПИДЕМИЈСКОГ ПРОЦЕС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ВИРУЛЕНЦИЈА    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С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тепен патоге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Pромен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а особин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микроорганизам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Фактори дом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на и средине м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ју вируленциј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Могу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ност слаб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 вируленције користи с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за производ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у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 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их вакци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В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 број пас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 на вешт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ким хранилиштима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 атенуација,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задр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вају своје антигене особине (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е вакцине – МоРуПар</a:t>
            </a:r>
            <a:r>
              <a:rPr b="0" lang="en-US" sz="2400" spc="-1" strike="noStrike">
                <a:solidFill>
                  <a:srgbClr val="ffffff"/>
                </a:solidFill>
                <a:latin typeface="Times Cirilic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Cirilica"/>
              </a:rPr>
              <a:t>КОЛИ</a:t>
            </a:r>
            <a:r>
              <a:rPr b="0" lang="sr-CS" sz="40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0" lang="en-US" sz="4000" spc="-1" strike="noStrike">
                <a:solidFill>
                  <a:srgbClr val="ffff00"/>
                </a:solidFill>
                <a:latin typeface="Times Cirilica"/>
              </a:rPr>
              <a:t>ИНА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Cirilica"/>
              </a:rPr>
              <a:t>(инфективна доза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Ут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 на појаву, ток и исход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Ду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а инкубације појединих заразних болести обрнуто сразмерна кол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и проузроков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Cirilica"/>
              </a:rPr>
              <a:t>Ду</a:t>
            </a:r>
            <a:r>
              <a:rPr b="0" lang="sr-CS" sz="3600" spc="-1" strike="noStrike">
                <a:solidFill>
                  <a:srgbClr val="ffff00"/>
                </a:solidFill>
                <a:latin typeface="Times Cirilica"/>
              </a:rPr>
              <a:t>ж</a:t>
            </a:r>
            <a:r>
              <a:rPr b="0" lang="en-US" sz="3600" spc="-1" strike="noStrike">
                <a:solidFill>
                  <a:srgbClr val="ffff00"/>
                </a:solidFill>
                <a:latin typeface="Times Cirilica"/>
              </a:rPr>
              <a:t>ина инкубације појединих заразних болести обрнуто сразмерна коли</a:t>
            </a:r>
            <a:r>
              <a:rPr b="0" lang="sr-CS" sz="36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Times Cirilica"/>
              </a:rPr>
              <a:t>ини проузрокова</a:t>
            </a:r>
            <a:r>
              <a:rPr b="0" lang="sr-CS" sz="36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Times Cirilica"/>
              </a:rPr>
              <a:t>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2285640"/>
            <a:ext cx="815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*) 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Х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др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на епидем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imes Ciril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сред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 инкубација ду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 од прос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не за одр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ђ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ну боле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imes Ciril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више субклин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ких и лаких атип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них инфекција од о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кивани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imes Ciril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леталитет н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 од прос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но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*) 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лиментарне епидемиј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Cirilica"/>
              </a:rPr>
              <a:t>КОЛИ</a:t>
            </a:r>
            <a:r>
              <a:rPr b="1" lang="sr-CS" sz="40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1" lang="en-US" sz="4000" spc="-1" strike="noStrike">
                <a:solidFill>
                  <a:srgbClr val="ffff00"/>
                </a:solidFill>
                <a:latin typeface="Times Cirilica"/>
              </a:rPr>
              <a:t>ИНА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Cirilica"/>
              </a:rPr>
              <a:t>(инфективна доза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Зн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јна у предузим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у мера превенциј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Доласком у контакт са малом кол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ом проузроков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спре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вамо појаву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субклин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ким инфекцијама развија се отпорон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48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колошки тријас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ген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дом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                  сред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2666880"/>
            <a:ext cx="2666880" cy="2133720"/>
          </a:xfrm>
          <a:prstGeom prst="flowChartExtra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8400" y="609480"/>
            <a:ext cx="6232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М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 = резервоар и/или изв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АГЕНС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Један агенс                                               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→ болест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разли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  <a:ea typeface="Arial"/>
              </a:rPr>
              <a:t>ч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ити ме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  <a:ea typeface="Arial"/>
              </a:rPr>
              <a:t>ђ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усобно неповезани агенси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(алтернативно дејство)                                         → болест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Комплекс два или ви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  <a:ea typeface="Arial"/>
              </a:rPr>
              <a:t>ш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е агенас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(кумулативно дејство)                                           → болест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Cirilica"/>
              </a:rPr>
              <a:t>Резервоар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соба, 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от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, артропод, б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ка, зем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 или супстанција као и 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хова комбинација у којој инфективни агенс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Cirilica"/>
              </a:rPr>
              <a:t>нормално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Cirilica"/>
              </a:rPr>
              <a:t>Ж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Cirilica"/>
              </a:rPr>
              <a:t>ИВИ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 и са које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Cirilica"/>
              </a:rPr>
              <a:t>мо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Cirilica"/>
              </a:rPr>
              <a:t>ж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Cirilica"/>
              </a:rPr>
              <a:t>е да се пренесе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 на ОСЕТ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ОГ ДОМ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Н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ј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ш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 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и организам, мо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 и н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а сред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imes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зем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imes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систем цеви за топлу вод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imes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систем за расхл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ђ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 ваздух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Cirilica"/>
              </a:rPr>
              <a:t>Извор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О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соба,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вот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, предмет или супстанција са које се инфективни агенс у одре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ђ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ном тренутку 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Cirilica"/>
              </a:rPr>
              <a:t>преноси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на осет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вог дом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а и доводи до појаве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*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вода за п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 заг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ђ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н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. typh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ЗEРВО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ЛЕС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 периоду инкубац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 току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продромалнoм стадију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а тип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м клин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м слик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а атип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м клин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м слик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а неманифест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м обл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м бo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90920" y="1752120"/>
            <a:ext cx="91440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2362320"/>
            <a:ext cx="9903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71240" y="609480"/>
            <a:ext cx="5819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АЈВАЖНИЈИ РЕЗЕРВОА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0" lang="en-US" sz="4000" spc="-1" strike="noStrike">
                <a:solidFill>
                  <a:srgbClr val="ffff00"/>
                </a:solidFill>
                <a:latin typeface="Times Cirilica"/>
              </a:rPr>
              <a:t>ОВЕК</a:t>
            </a:r>
            <a:r>
              <a:rPr b="0" lang="sr-CS" sz="4000" spc="-1" strike="noStrike">
                <a:solidFill>
                  <a:srgbClr val="ffff00"/>
                </a:solidFill>
                <a:latin typeface="Times Cirilica"/>
              </a:rPr>
              <a:t> - </a:t>
            </a:r>
            <a:r>
              <a:rPr b="0" lang="en-US" sz="4000" spc="-1" strike="noStrike">
                <a:solidFill>
                  <a:srgbClr val="ffff00"/>
                </a:solidFill>
                <a:latin typeface="Times Cirilica"/>
              </a:rPr>
              <a:t>БОЛЕСНИ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)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У ПЕРИОДУ ИНКУБАЦИЈЕ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 резервоа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= од продора инфективног агенса у организам дом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а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до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првих симптома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*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кратка инкубација                                            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(назеб, грип, бац. дизентерија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инфекција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Ф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интоксикациј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*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дуг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ка инкубациј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(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СИДА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, хепатитис Б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Б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рој и вируленција кл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О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сет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вост дом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М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сто уласка у организ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1754640" y="609480"/>
            <a:ext cx="48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На инкубацију ути</a:t>
            </a:r>
            <a:r>
              <a:rPr b="1" lang="sr-CS" sz="36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ahoma"/>
              </a:rPr>
              <a:t>Инкубациј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1. Болесник у инкубацији НИЈЕ резервоар инфекције (вар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ла, вариола, морбили, пертусис, гр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, т. тифус, паратифус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2. Болесник је резервоар инфекције ПРИ  КРАЈУ инкубације (паротитис, акутне вирусне респираторне болести, полиомијелитис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3. Болесник је резервоар инфекције током ДУ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Г ПЕРИОДА (хепатитис А, хепатитис Б, хепатитис Ц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ОВЕК</a:t>
            </a:r>
            <a:r>
              <a:rPr b="1" lang="sr-CS" sz="44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БОЛЕСНИ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б) У ТОКУ БОЛЕСТИ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клини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и манифестне или субклини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е, инапарентне)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 резервоар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дромал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стадију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п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кли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слик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ип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кли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слик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манифест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обл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 бo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ОВЕК</a:t>
            </a: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БОЛЕСНИ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) У ТОКУ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У продромалном стадијум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лу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је се најв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број клиц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разност најв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терални стадију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морбила, вар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ле, рубеле, вариол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иктер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и стадијум код вирусног хепатити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н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јан стадијум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дово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о изр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на симптоматологиј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је могу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 поставити т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у дијагноз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ОВЕК -  БОЛЕСНИ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4648320"/>
            <a:ext cx="381240" cy="75960"/>
          </a:xfrm>
          <a:custGeom>
            <a:avLst/>
            <a:gdLst>
              <a:gd name="textAreaLeft" fmla="*/ 47520 w 381240"/>
              <a:gd name="textAreaRight" fmla="*/ 333720 w 381240"/>
              <a:gd name="textAreaTop" fmla="*/ 19080 h 75960"/>
              <a:gd name="textAreaBottom" fmla="*/ 57240 h 75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У ТОКУ БОЛЕСТ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Токoм ТИП</a:t>
            </a:r>
            <a:r>
              <a:rPr b="1" lang="sr-CS" sz="3100" spc="-1" strike="noStrike" u="sng">
                <a:solidFill>
                  <a:srgbClr val="ffffff"/>
                </a:solidFill>
                <a:uFillTx/>
                <a:latin typeface="Arial"/>
              </a:rPr>
              <a:t>ИЧ</a:t>
            </a:r>
            <a:r>
              <a:rPr b="1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НЕ клин</a:t>
            </a:r>
            <a:r>
              <a:rPr b="1" lang="sr-CS" sz="3100" spc="-1" strike="noStrike" u="sng">
                <a:solidFill>
                  <a:srgbClr val="ffffff"/>
                </a:solidFill>
                <a:uFillTx/>
                <a:latin typeface="Arial"/>
              </a:rPr>
              <a:t>ич</a:t>
            </a:r>
            <a:r>
              <a:rPr b="1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ке слике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(испо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ни с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мптоми карaктерист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ни за ту зарaзу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па (морбил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, вариола, вари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ла, рубела, скарлaтина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еудоме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бране 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а поједин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м органима (дифтер. запa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аце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ива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 (пертуси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ни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ални с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ндром (епидеми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мени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тис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рифернe парaлизе (полиoм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јелит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ОВЕК -  БОЛЕСНИ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У ТОКУ БОЛЕСТ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Токoм ТИП</a:t>
            </a:r>
            <a:r>
              <a:rPr b="1" lang="sr-CS" sz="3100" spc="-1" strike="noStrike" u="sng">
                <a:solidFill>
                  <a:srgbClr val="ffffff"/>
                </a:solidFill>
                <a:uFillTx/>
                <a:latin typeface="Arial"/>
              </a:rPr>
              <a:t>ИЧ</a:t>
            </a:r>
            <a:r>
              <a:rPr b="1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НЕ клин</a:t>
            </a:r>
            <a:r>
              <a:rPr b="1" lang="sr-CS" sz="3100" spc="-1" strike="noStrike" u="sng">
                <a:solidFill>
                  <a:srgbClr val="ffffff"/>
                </a:solidFill>
                <a:uFillTx/>
                <a:latin typeface="Arial"/>
              </a:rPr>
              <a:t>ич</a:t>
            </a:r>
            <a:r>
              <a:rPr b="1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ке слике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(испо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ни с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мптоми карaктерист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ни за ту зарaзу)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 резервоар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Немају епидемиолoшки зна</a:t>
            </a:r>
            <a:r>
              <a:rPr b="1" lang="sr-CS" sz="31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ј</a:t>
            </a:r>
            <a:r>
              <a:rPr b="1" lang="sr-C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ијагноза нa времe постав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на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золација и ле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 нa времe постав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н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арaзност нагло oпадa и кратко траје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(вирусни хепати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т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 А, пертуси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Класификација агенаса и </a:t>
            </a:r>
            <a:r>
              <a:rPr b="0" lang="sr-CS" sz="4000" spc="-1" strike="noStrike">
                <a:solidFill>
                  <a:srgbClr val="ffff00"/>
                </a:solidFill>
                <a:latin typeface="Arial"/>
              </a:rPr>
              <a:t>њ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ихова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карактеристи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генси могу би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физ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хемијс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биол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ОВЕК  -  БОЛЕСНИ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) У ТОКУ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Током АТИПИ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НЕ клини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ке слик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ешки (фудроајантни, фулминантни, малигни)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мрт пре постав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а дијагноз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злу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ена велика коли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ина клиц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хемораги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а вариол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фудроајантни облик епидеми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ог менингитис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дифтери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и круп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хемораги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и шарлах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алгидна форма колер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хепатитис А код трудниц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ОВЕК - БОЛЕСНИК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б) У ТОКУ БОЛЕ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Током АТИПИ</a:t>
            </a:r>
            <a:r>
              <a:rPr b="1" lang="sr-CS" sz="35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НЕ клини</a:t>
            </a:r>
            <a:r>
              <a:rPr b="1" lang="sr-CS" sz="35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ке слике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Лаки (амбулантни, абортивни) </a:t>
            </a:r>
            <a:r>
              <a:rPr b="1" lang="sr-CS" sz="35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е јав</a:t>
            </a: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ају се лекару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ијагноза погрешна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е ле</a:t>
            </a: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е се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ОВЕК - БОЛЕСНИК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) У ТОКУ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Током АТИПИ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НЕ клини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ке слик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Лаки (амбулантни, абортивни)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адекватно се л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ар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ла, морбили, руб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шарлах без осп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фтер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 зап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 без псеудомембр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ртусис без зац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мбулантни облик трбушног тиф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и проливи код дизентерије и коле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лиомијелитис са катаралним променама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а респираторном и дигестивном трак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ирусни хепатитис А код де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ОВЕК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БОЛЕСНИК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Током АТИПИ</a:t>
            </a:r>
            <a:r>
              <a:rPr b="1" lang="sr-CS" sz="35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НЕ клини</a:t>
            </a:r>
            <a:r>
              <a:rPr b="1" lang="sr-CS" sz="35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ке слике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&gt; Симптоми одступају од карактерис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    клин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е сли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&gt; Симптоми интезнивнији и бл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&gt; Ови болесници су епидемиолошки веома зн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ј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ВЕК - БОЛЕСНИК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б) У ТОКУ БОЛЕСТИ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Током НЕМАНИФЕСТНОГ облика болести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нема клини</a:t>
            </a: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ке слике-симптома и знаков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синоними: латентни, безсимптомни, неприметни, инапарентни, неми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ОВЕК - БОЛЕСНИК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б) У ТОКУ БОЛЕСТИ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Током НЕМАНИФЕСТНОГ облика болест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стају у слу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ју: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лог броја проузрокова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лабо вирулентних сојева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елими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не (специфи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не или неспецифи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не) 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тпорности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став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 имунитет истог квалитета као и у слу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ју преле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ног м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нифестног обо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ијагноза се постав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 иск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иво лабораторијски (изолација узро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ника, серолошке реакције)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ОВЕК - БОЛЕСНИК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б) У ТОКУ БОЛЕСТИ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Током НЕМАНИФЕСТНОГ облика болести</a:t>
            </a:r>
            <a:r>
              <a:rPr b="1" lang="sr-CS" sz="3400" spc="-1" strike="noStrike" u="sng">
                <a:solidFill>
                  <a:srgbClr val="ffffff"/>
                </a:solidFill>
                <a:uFillTx/>
                <a:latin typeface="Arial"/>
              </a:rPr>
              <a:t> резервоар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пидмиолошки зна</a:t>
            </a: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ај велики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те</a:t>
            </a: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ано постав</a:t>
            </a: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е дијагнозе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ако шире</a:t>
            </a: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е заразе на околину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ОВЕК – КЛИЦОНО</a:t>
            </a: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1536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Клицоноша ПОСЛЕ ПРЕЛЕ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АНЕ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ДРАВЕ (КОНТАКТНЕ) КЛИЦОН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ОВЕК – КЛИЦОНО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фекција се задр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ва на нивоу колонизације уколико постој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дсуство диспози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пециф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отпорн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Клицоноша ПОСЛЕ ПРЕЛЕ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АНЕ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кутно клицонош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рон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 клицонош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КУТНО клицонош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обе после клин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г оздрав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 кратко (највише 3 м.) изл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ју кл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ковалесцентне, пролазне, привреме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р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то ако је изостало адекватно л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РОН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 клицонош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л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је клице и после 3 м. од прел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не болести (више година или до краја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от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ОВЕК – КЛИЦОНО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Клицоноша ПОСЛЕ ПРЕЛЕ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АНЕ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РОН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О клицонош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л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је клице и после 3 м. од прел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е болести (више година или до краја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би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времено (интермитентно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ално (перманентно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собине агeнaс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Инт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т (физ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агенс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Токс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 (хемијск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генс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Вирулент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биолo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и агенс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ЧОВЕК – КЛИЦОНО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Клицоноша ПОСЛЕ ПРЕЛЕ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АНЕ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РОНИЧНО клицоноштв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ифтерија – хронично запаљење слузокоже; више месец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трептококне инфе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више месец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епатитис Б – трансплацентарни пренос, ХИВ, Даунов синдром, пацијенти на хемодијализ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ларија – нелечени или недовољно лече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ЧОВЕК – КЛИЦОНО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ДРАВЕ (КОНТАКТНЕ) КЛИЦОНО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шко их је разликовати од неманифестно оболелих болесн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лучивање клица је краткотрај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јављају се при епидемијској појави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лицима у непосредној околини болесника – они који негују болесник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тко се откривај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паснији од клицоноша после прележаних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I 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Е КАО РЕЗЕРВОАРИ ЗАРАЗ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болес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линички манифестно облоле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линички неманефестно оболе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клицонош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лучују велику количину клиц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вце и краве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грозн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вце и козе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бруцело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виње, краве, др. домаће животиње, глодари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лептоспироз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I 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Е КАО РЕЗEРВОАРИ ЗАРAЗ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иш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слободној природи (див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дским нас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ма (дом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, див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– глодар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 свих об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посебно су зн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јне антропозооноз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I 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Е КАО РЕЗEРВОАРИ ЗАРAЗ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Антропозоонозе према етиологиј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ктеријске: антракс, бовина ТБЦ, туларемија, лептоспирозе, куг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русне:беснило, пситактоза-орнитоза, слинавк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ап,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жут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грозница, сезонски енцефалитис, вирусне хемораг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гозниц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кецијске: љ – грозница и други пегавц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отозалне: токсоплазмоза, шистозомијаза, лајшманијаза, трипанозомиј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лминтозе: тенијазе, ехинококозе,трихинелоз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Г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: микроспорије, трихофитија, фаву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КОНЦЕПТ ПРИРОДНИХ 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АРИ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Т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РОДНО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 ј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риторија у див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ј природи у којој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и одр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на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на заједниц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улација уз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ика која заједно са попул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јом дом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а к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ка, а у сл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ју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нсмисивних зараза и популацијом вектора, 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вају узр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ика у одр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ном биотоп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КОНЦЕПТ ПРИРОДНИХ 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РИ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Т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век сл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јно изл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н инфекцији у току след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х активност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шумари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војници за време логоров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њ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 маршев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овц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а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истр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е екип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ланинар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талост зар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в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ди који бораве у природном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ришту зависи од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алентности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ришта (гладни крп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и инсек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роја изл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н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е изл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СТРУКТУРА  ПРИРОДНОГ  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АРИ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Т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Узро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ици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вируси                      г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ивиц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бактерије                протозо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рикеције                  хелминт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Подела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аришта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према броју узро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ника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једноузро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вишеузро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Подела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аришта према броју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ук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љ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у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ених 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ивоти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њ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ских врста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једнодома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инск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вишедома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инск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СТРУКТУРА  ПРИРОДНОГ  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АРИ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Т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ела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ришта према векторима (инсекти и пауколики зглавкари) који 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твују у пренош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узр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ик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једновектор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ишевектор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размн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в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 див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х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, вектора и микроорганизама ут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: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мене везане за сезо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активност природног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ришта (гаш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 или уд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в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 од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дских нас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) ут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: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ктивност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ве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АНТРОПУРГИ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НО 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АРИ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ТЕ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потрази за храном див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прибл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вају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аришта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љ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удским насе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љ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им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и у ензоотски процес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ук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љ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у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ују и дома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ћ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и глодар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п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и менингоенцефалити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имска-Конго хемораг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гозн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собине агeнaс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сокo инфектив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аген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→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једнократно излагa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е → бол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руги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фектив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агенси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многи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ж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ви агенс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→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в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 кол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ч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; д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е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лов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е → бол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венција природн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ишних инфекц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азира на познав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карактеристика ензоотског процеса у конкретном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ишт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новни принцип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ециф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зашти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м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контакта са резервоаром и преносиоцем узр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кид кр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узр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ика у природном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ишт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УЛАЗНА  И  ИЗЛАЗНА  МЕСТА  ИНФЕКЦИЈЕ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узница респираторног трак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узница дигестивног трак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д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е слузниц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457200" y="838080"/>
          <a:ext cx="8229600" cy="5294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АВНО ул</a:t>
                      </a:r>
                      <a:r>
                        <a:rPr b="1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зно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т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зрочник, боле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РЕДНО ул</a:t>
                      </a:r>
                      <a:r>
                        <a:rPr b="1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зно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мест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узница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сп</a:t>
                      </a: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раторног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тра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ептококна инфекција,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фер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</a:t>
                      </a: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љ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ва слуз</a:t>
                      </a: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ц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узница дигестивног тра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рус дечје парализ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узница респираторног тра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ж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нтрак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узница дигестивног тракта и респираторног тра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икро и макро лезије коже и видљивих слузниц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ептоспитроз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узница дигестивног тра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80880" y="838080"/>
          <a:ext cx="8229600" cy="5854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спираторна обољењ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ип, м. боги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њ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, назеб, зау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е, велики ка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љ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шарла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ревна обољењ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.тифус, паратифус А,Б, бац. диз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нтерија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вир. хепатитис А, де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ја парализа, колера, трова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њ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 храно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кторска обољењ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ларија, пегави т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фус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повратни т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фус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ж. грозница, денга, папата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 грозница, лај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нијаза, трипанозомија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жна обољењ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урункулоза, карбункулоза, флегмона, импетиго, актиномикоза, трихофитија, фавус, еризип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фекције ра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танус, гасна гангре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чна обољењ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ахом, бленореја, ко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њ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ктивитис разли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е етиологиј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лне боле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нореја, сифилис,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ИВ инфекција, вирусни хепатитис Б и Ц, генитални херпе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1149480" y="228600"/>
            <a:ext cx="681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ЕПИДЕМИОЛО</a:t>
            </a:r>
            <a:r>
              <a:rPr b="0" lang="sr-CS" sz="1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КА КЛАСИФИКАЦИЈА ЗАРАЗНИХ БОЛЕСТИ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(са</a:t>
            </a:r>
            <a:r>
              <a:rPr b="0" lang="sr-CS" sz="18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и</a:t>
            </a:r>
            <a:r>
              <a:rPr b="0" lang="sr-CS" sz="1800" spc="-1" strike="noStrike">
                <a:solidFill>
                  <a:srgbClr val="ffffcc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ена на основу ГЛАВНОГ улазног места поузрокова</a:t>
            </a:r>
            <a:r>
              <a:rPr b="0" lang="sr-CS" sz="18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ЕПИДЕМИОЛО</a:t>
            </a:r>
            <a:r>
              <a:rPr b="0" lang="sr-CS" sz="24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КА КЛАСИФИКАЦИЈА ЗАРАЗНИХ БОЛЕСТИ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ТРОПОЗООНОЗЕ (једно или више улазних места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тракс, бруцелоза, туларемија, куга,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грозница, лептоспироз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ринитоза-пситакоза, слинавк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или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ап, сакагија, беснил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ИВОТНА  СРЕДИН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веукупност спо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их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инилаца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иве и не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иве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ироде који делују на одре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ену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јединицу или еколошку заједницу,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дре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ју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хов развој и опстана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ивотна средина (екосфера)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лој з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м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е коре, ук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ј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воду и ваздух у коме је смештен целокупни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и св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биотска – геосф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иотска – биосф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ИВОТНА  СРЕДИН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КОЛОГ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ука о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односима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ивих би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ћ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а и средин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ја их окр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је (остале јединке исте врсте, флора и фауна и целокупа н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а природ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ИВОТНА  СРЕДИН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ПИДЕМИОЛОГ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ДИЦИНСКА (ХУМАНА) ЕКОЛОГ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ва м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собне односе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овека и седин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који имају утицаја на здрав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. АБИОТСКА (ГЕОФИЗИ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КА) СРЕДИН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ухвата н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у природу – геосфер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вода, кисеоник, минерали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тмосф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идросф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тосф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ФИЗИ</a:t>
            </a:r>
            <a:r>
              <a:rPr b="0" lang="sr-CS" sz="44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КИ АГЕНС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мпература (ниска и висо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низуј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зр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хан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и агенси (механ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 сила, звук, потрес, вибрациј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. АБИОТСКА (ГЕОФИЗИ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КА) СРЕДИН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ЕОЛО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И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ниоц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РЕКТАН утицај на здрав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ендемска гу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ш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авос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недостатак јода у тлу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у вод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флуроз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о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 зуба због пов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садр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ја F2 у вод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рак плу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ћ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пов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на еманација радона из тла пој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ва природни фон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диоактивности терен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БИОТСКА (ГЕОФИЗИ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КА) СРЕДИН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ЕОГРАФСКИ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ниоц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ДИРЕКТНИ утицај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на здрављ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ДИРЕКТА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утицај на топографску расподелу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2. БИОТСКА (БИОЛО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КО-СОЦИЈАЛНА) СРЕДИН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а б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и односи које она м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собно успостав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ј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лоније мува и п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дска заједн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БИОТСКА (БИОЛО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КО-СОЦИЈАЛНА) СРЕДИН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ИРЕКТНИ ЕФЕК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 или б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е доводе до порем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ја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дског здрав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ро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ици заразних болести (вируси, рикеције, бактерије, г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ице, протозое и в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лијски паразит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овне б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е (р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на главица, буник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овне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 (пауци, змије и др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осет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ост на ин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 н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д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е б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е и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 (полен, перје и др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БИОТСКА (БИОЛО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КО-СОЦИЈАЛНА) СРЕДИН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360" y="2438280"/>
            <a:ext cx="7848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НДИРЕКТНИ ЕФЕК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ктор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имални резервоари зараз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БИОТСКА (БИОЛО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КО-СОЦИЈАЛНА) СРЕДИН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УТИЦАЈ НА ЗДРАВСТВЕНО СТА</a:t>
            </a: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УДИ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про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лости (би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ке, 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е) неухра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еност, умира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е од глади и заразних болести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Данас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односи у 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удској заједници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социо-економско ста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е, доступни обрасци пона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на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н 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вота (исхрана, пу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е, физи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ка активност, потро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ш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а алкохола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ahoma"/>
              </a:rPr>
              <a:t>Најзначајнији хемијски агенс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4400" spc="-1" strike="noStrike">
                <a:solidFill>
                  <a:srgbClr val="ffffff"/>
                </a:solidFill>
                <a:latin typeface="Arial"/>
              </a:rPr>
              <a:t>Пестицид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инсектици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фунгици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хербици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У прехрамбеној индустриј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синтетске бој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конзерванс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антиоксиданс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Леков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457200" y="274680"/>
          <a:ext cx="8229600" cy="5820840"/>
        </p:xfrm>
        <a:graphic>
          <a:graphicData uri="http://schemas.openxmlformats.org/drawingml/2006/table">
            <a:tbl>
              <a:tblPr/>
              <a:tblGrid>
                <a:gridCol w="1905120"/>
                <a:gridCol w="2361960"/>
                <a:gridCol w="3962520"/>
              </a:tblGrid>
              <a:tr h="8280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ЕМИЈСКИ АГЕНС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ОТРOВ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ГЗОГЕНОГ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рек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ОРГАНСКИ 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халогени ел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О, Pb, Hg, </a:t>
                      </a: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селине, базе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СКИ</a:t>
                      </a:r>
                      <a:r>
                        <a:rPr b="0" lang="sr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хлороформ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тар, алкохол бензол, фенo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6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ИОЛОШКОГ порекл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оксини отрoвних гљив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калоиди и гликозид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иљног порекла, отрови змиј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секат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8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НДОГЕНОГ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рек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емија, хепатитична ком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јабетична ком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погликемијска</a:t>
                      </a: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зa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перхолестеролемиј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монски дисбалан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Cirilica"/>
              </a:rPr>
              <a:t>БИОЛО</a:t>
            </a:r>
            <a:r>
              <a:rPr b="0" lang="sr-CS" sz="4400" spc="-1" strike="noStrike">
                <a:solidFill>
                  <a:srgbClr val="ffffcc"/>
                </a:solidFill>
                <a:latin typeface="Times Cirilica"/>
              </a:rPr>
              <a:t>Ш</a:t>
            </a:r>
            <a:r>
              <a:rPr b="0" lang="en-US" sz="4400" spc="-1" strike="noStrike">
                <a:solidFill>
                  <a:srgbClr val="ffffcc"/>
                </a:solidFill>
                <a:latin typeface="Times Cirilica"/>
              </a:rPr>
              <a:t>КИ АГЕНС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Проузроков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 заразних боле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-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рус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-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Р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кециј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-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Гљ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виц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-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П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ротоз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-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М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таз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7-01-09T11:35:39Z</dcterms:modified>
  <cp:revision>1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